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83560" cy="9294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166">
                <a:moveTo>
                  <a:pt x="4" y="0"/>
                </a:moveTo>
                <a:arcTo wR="4" hR="4" stAng="16200000" swAng="-5400000"/>
                <a:lnTo>
                  <a:pt x="0" y="29162"/>
                </a:lnTo>
                <a:arcTo wR="4" hR="4" stAng="10800000" swAng="-5400000"/>
                <a:lnTo>
                  <a:pt x="21596" y="2916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97000" y="-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17080" y="696600"/>
            <a:ext cx="4645080" cy="348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080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76416-12A6-44B0-B7DB-80531FBCA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06802-B607-42B7-8E5F-E7A2BA634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621C-432D-4895-B96B-95576677E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9995-A2A2-456D-A4F8-B0694405F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F2C1A-CC8D-4CD2-990B-40EB7B827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489F-5F8C-4109-8A4A-2A6BB2D51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A9F01-BCC8-49DB-9E44-AECB8A55C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E30D-C664-4452-B9D8-7956B46B5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39152-E9D9-4DC3-A53B-BF66D8015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0A1A-32A7-4B58-A775-EBD37A38E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CA1AF-4905-4D82-8A47-31F46E44B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7F32-8327-41C3-A4D1-F13BE1C9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8C37-6C98-450C-BF55-C8ECED36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1E712-8FB9-450E-81BA-8035D30E5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20A2-851B-4993-B3DC-DFFD36554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D8B1E-31C0-4F41-8828-21410AB02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63133-AFDB-4DB3-827E-E40145C99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7D219-35BF-4E83-A3D7-F67FC98E1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9DC7-0F6E-4CB4-8878-7173A5406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AC58A-D75E-4786-9071-97D9B486C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87DE8-3D41-4CCB-81F7-2F372E3B7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17364-D139-4E81-9B57-8AF81A7EC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B8C1-CF79-4DF7-8AD0-6AD6A5605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5314-5387-47F4-B029-F7824C9D9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2BF9-2C56-42B0-97D3-E69CC89AF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EBC30-FD6B-4D92-BB6A-173ED4A85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5DDE-664A-4675-86A9-1AA58067A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8A1B9-C246-4447-9B31-06E9258E3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8BADA-7714-4207-8816-E844E5DFE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5960-F824-4FBA-A165-745E97D6F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FD4E-3E3F-49DB-8358-95AE6B9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895F-5D19-4741-B4D6-311EA1C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2377-2825-4204-9554-2A9788377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4E7C7-EA07-41C3-BEEC-053E89DF6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0FBBE-840B-48D9-B913-62906C1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AE66-E66D-44B7-84D5-4DF7FE12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EBB60-05E0-4196-9371-8338F4F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56A9-2E6C-45CE-9316-97E5DA2B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B02BD-E61F-44F9-AACF-AD8C43F4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DB0FF-B329-466A-A745-0FD723D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B408-C30F-45A1-A65E-FD17948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7D34-ACE0-4C07-BDD9-0B8AEC82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6997-3EEA-4C7C-8266-29CC6F5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9C29-F22B-4A02-9B2F-8B094777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0A33F-AE20-4894-AC2C-3D8EDB0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ABD5E-8E4A-48D0-9B8D-6C0B879AD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9AA-0B35-4814-B965-F5DAF4DC5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876-BD26-49F8-9627-41AE5B43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D22-D07C-498C-B390-1A5BE707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EE2-2B0A-4E70-99D2-15BDB84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CD9E-893B-4849-9621-8E8922E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E2BC-F127-40CB-B82E-4179E9A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15BD-FBF9-4C40-BB93-CF24EAA7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365-6B88-41D3-9DE5-E3D4095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BFD3-8B43-451C-9276-40252C57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5B1-E764-4D7D-BC58-42AD689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14B5-C461-4274-8CF6-8BE41D36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8E3-576A-4A91-AF37-B6510C9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A3F-28E4-4127-B128-D26374851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B2541-79F5-4339-8958-2EFA7B926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1AD20-6C62-41FB-9952-095B87E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EE6B1-35D5-4EB1-B872-5EDA933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BD6E-3FF3-4E4C-B495-414039C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BF938-A13C-4A65-9F5D-F899A9F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85D54-3A81-4128-BE17-A83A6546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191A6-FBFF-4131-8576-C9D24081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47366-D1B3-4083-A950-8FBF5FA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EA7C4-5947-458C-B09C-FED3AD6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5BB23-08DD-44BC-B4D1-3681960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B6CBA-DA48-4A5C-A005-F48B03C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E0898-DD68-4A0E-B625-A14B386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AD3F8-5BAE-4D78-AFF2-501CDF894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320B-A16C-4DDF-9E0D-1519C676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C458-5940-4159-85F4-4FC760AD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6BE7-44B0-4C0E-B135-0143E3C7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5799-A30E-4217-9797-363E2599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7049-160D-470B-981E-0DF1FB3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AFFA5-056E-4CD8-9727-99E79E1FA9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8206A-917C-49CB-95F5-F5541D4F79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F5CD5-8F44-4101-A324-1C588B93D1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556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22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57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D30B0-C3CB-4A7D-A3AA-9A0BB73ACA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xed-Signal Circui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ign for Simple Spiking Neuron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ullah H. Ozc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mshi Chat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E 6332 – Fall 20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81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owering Supply Voltag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912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without gain booster st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914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using gain booster stag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14400" y="1371600"/>
            <a:ext cx="4038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C (4bit) Summa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chnology:  0.6 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g Power:   14.2 mW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0 mW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 Power:  23.9 m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ansistors used: 36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y Voltage: 5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Range: 1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: 200 MH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-9360" y="4952880"/>
            <a:ext cx="915336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648320" y="1676520"/>
          <a:ext cx="4113000" cy="2065320"/>
        </p:xfrm>
        <a:graphic>
          <a:graphicData uri="http://schemas.openxmlformats.org/drawingml/2006/table">
            <a:tbl>
              <a:tblPr/>
              <a:tblGrid>
                <a:gridCol w="855720"/>
                <a:gridCol w="896760"/>
                <a:gridCol w="1217520"/>
                <a:gridCol w="1143000"/>
              </a:tblGrid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bit AD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Fat Tree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ROM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8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5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Spe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00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11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80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. 22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38.65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2.64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54.41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istor Cou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0^11 neurons, each neuron 10-10^5 synap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es less power than your refrigerator l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wer matters; decreasing energy/spi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816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2022480"/>
            <a:ext cx="8839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26440" cy="4143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6095880"/>
            <a:ext cx="8153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arator P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1066680" y="4876920"/>
            <a:ext cx="6477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istors used: 1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2.1  m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9.29 mW (% 17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S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DC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uron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onclu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33520" y="533520"/>
            <a:ext cx="76960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Q Bas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TO DIGITAL CONVERT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457200" y="685800"/>
            <a:ext cx="8659800" cy="923760"/>
            <a:chOff x="457200" y="685800"/>
            <a:chExt cx="8659800" cy="923760"/>
          </a:xfrm>
        </p:grpSpPr>
        <p:pic>
          <p:nvPicPr>
            <p:cNvPr id="216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86598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"/>
            <p:cNvSpPr/>
            <p:nvPr/>
          </p:nvSpPr>
          <p:spPr>
            <a:xfrm>
              <a:off x="457200" y="685800"/>
              <a:ext cx="865980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152280" y="609480"/>
            <a:ext cx="76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rat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48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in Booste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3520" y="5983200"/>
            <a:ext cx="44956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Transitions in the output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voltage sw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80880" y="533520"/>
            <a:ext cx="403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66680" y="5867280"/>
            <a:ext cx="5410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Converts TC Code 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out of N cod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533520"/>
            <a:ext cx="746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oder  Stage (Fat Tree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vamshichatla</cp:lastModifiedBy>
  <dcterms:modified xsi:type="dcterms:W3CDTF">2009-12-03T16:44:59Z</dcterms:modified>
  <cp:revision>28</cp:revision>
  <dc:subject/>
  <dc:title>Slide 1</dc:title>
</cp:coreProperties>
</file>